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87540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98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136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5604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136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5604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79280" y="71928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198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387540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198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1136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56040" y="144756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1136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56040" y="3875400"/>
            <a:ext cx="22327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280" y="71928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9880" y="387540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688680"/>
            <a:ext cx="7543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9880" y="1447560"/>
            <a:ext cx="33836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875400"/>
            <a:ext cx="6934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280" y="7192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frag" descr=""/>
          <p:cNvPicPr/>
          <p:nvPr/>
        </p:nvPicPr>
        <p:blipFill>
          <a:blip r:embed="rId2"/>
          <a:stretch/>
        </p:blipFill>
        <p:spPr>
          <a:xfrm>
            <a:off x="0" y="0"/>
            <a:ext cx="54936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1219320"/>
            <a:ext cx="3808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rødstreg" descr=""/>
          <p:cNvPicPr/>
          <p:nvPr/>
        </p:nvPicPr>
        <p:blipFill>
          <a:blip r:embed="rId3"/>
          <a:stretch/>
        </p:blipFill>
        <p:spPr>
          <a:xfrm>
            <a:off x="358920" y="1255680"/>
            <a:ext cx="7611840" cy="11160"/>
          </a:xfrm>
          <a:prstGeom prst="rect">
            <a:avLst/>
          </a:prstGeom>
          <a:ln w="0">
            <a:noFill/>
          </a:ln>
        </p:spPr>
      </p:pic>
      <p:pic>
        <p:nvPicPr>
          <p:cNvPr id="5" name="blåstreg" descr=""/>
          <p:cNvPicPr/>
          <p:nvPr/>
        </p:nvPicPr>
        <p:blipFill>
          <a:blip r:embed="rId4"/>
          <a:stretch/>
        </p:blipFill>
        <p:spPr>
          <a:xfrm>
            <a:off x="533520" y="1066680"/>
            <a:ext cx="11160" cy="320760"/>
          </a:xfrm>
          <a:prstGeom prst="rect">
            <a:avLst/>
          </a:prstGeom>
          <a:ln w="0">
            <a:noFill/>
          </a:ln>
        </p:spPr>
      </p:pic>
      <p:pic>
        <p:nvPicPr>
          <p:cNvPr id="6" name="logo_b" descr=""/>
          <p:cNvPicPr/>
          <p:nvPr/>
        </p:nvPicPr>
        <p:blipFill>
          <a:blip r:embed="rId5"/>
          <a:stretch/>
        </p:blipFill>
        <p:spPr>
          <a:xfrm>
            <a:off x="5851440" y="6172200"/>
            <a:ext cx="2225880" cy="393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753160" y="6489720"/>
            <a:ext cx="24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Survey and Cadastre – Denmark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rag" descr=""/>
          <p:cNvPicPr/>
          <p:nvPr/>
        </p:nvPicPr>
        <p:blipFill>
          <a:blip r:embed="rId2"/>
          <a:stretch/>
        </p:blipFill>
        <p:spPr>
          <a:xfrm>
            <a:off x="0" y="0"/>
            <a:ext cx="549360" cy="3962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219320"/>
            <a:ext cx="38088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ødstreg" descr=""/>
          <p:cNvPicPr/>
          <p:nvPr/>
        </p:nvPicPr>
        <p:blipFill>
          <a:blip r:embed="rId3"/>
          <a:stretch/>
        </p:blipFill>
        <p:spPr>
          <a:xfrm>
            <a:off x="358920" y="1255680"/>
            <a:ext cx="7611840" cy="11160"/>
          </a:xfrm>
          <a:prstGeom prst="rect">
            <a:avLst/>
          </a:prstGeom>
          <a:ln w="0">
            <a:noFill/>
          </a:ln>
        </p:spPr>
      </p:pic>
      <p:pic>
        <p:nvPicPr>
          <p:cNvPr id="48" name="blåstreg" descr=""/>
          <p:cNvPicPr/>
          <p:nvPr/>
        </p:nvPicPr>
        <p:blipFill>
          <a:blip r:embed="rId4"/>
          <a:stretch/>
        </p:blipFill>
        <p:spPr>
          <a:xfrm>
            <a:off x="533520" y="1066680"/>
            <a:ext cx="11160" cy="320760"/>
          </a:xfrm>
          <a:prstGeom prst="rect">
            <a:avLst/>
          </a:prstGeom>
          <a:ln w="0">
            <a:noFill/>
          </a:ln>
        </p:spPr>
      </p:pic>
      <p:pic>
        <p:nvPicPr>
          <p:cNvPr id="49" name="logo_b" descr=""/>
          <p:cNvPicPr/>
          <p:nvPr/>
        </p:nvPicPr>
        <p:blipFill>
          <a:blip r:embed="rId5"/>
          <a:stretch/>
        </p:blipFill>
        <p:spPr>
          <a:xfrm>
            <a:off x="5851440" y="6172200"/>
            <a:ext cx="2225880" cy="39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53160" y="6489720"/>
            <a:ext cx="24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Survey and Cadastre – Denmark</a:t>
            </a: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NKG geoid meeting, Copenhagen, Nov 200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KG-2004 Geoid Mod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- most recent model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. Forsberg, G. Strykowski (KMS, Denma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. Bilker (Finnish Geodetic Instit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TM reference topograph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41" name="sdem2004.ref" descr=""/>
          <p:cNvPicPr/>
          <p:nvPr/>
        </p:nvPicPr>
        <p:blipFill>
          <a:blip r:embed="rId2"/>
          <a:stretch/>
        </p:blipFill>
        <p:spPr>
          <a:xfrm>
            <a:off x="1554120" y="1378080"/>
            <a:ext cx="5456160" cy="47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verage classical terrain corrections from detailed DEM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46" name="tc_ave" descr=""/>
          <p:cNvPicPr/>
          <p:nvPr/>
        </p:nvPicPr>
        <p:blipFill>
          <a:blip r:embed="rId2"/>
          <a:stretch/>
        </p:blipFill>
        <p:spPr>
          <a:xfrm>
            <a:off x="1839960" y="1447920"/>
            <a:ext cx="5856120" cy="5086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19320" y="5568840"/>
            <a:ext cx="11347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(conver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RTM by Bougu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tistics of gravity data redu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762120" y="1905120"/>
          <a:ext cx="8229600" cy="3357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37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: m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face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52856 p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1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GRACE/EG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64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7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borne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7869 p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0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GRACE/EG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3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7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0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KG2004 basic comput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idding by LSC and variable std.dev.(all &lt;8mgal). Corr.length = 25 km,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der Markov cov.f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: 53N-73N, 1E-33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600 grid (100% zero padd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kes function with and without modification (testing different solutions 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uced gravity da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59" name="fa_rd" descr=""/>
          <p:cNvPicPr/>
          <p:nvPr/>
        </p:nvPicPr>
        <p:blipFill>
          <a:blip r:embed="rId2"/>
          <a:stretch/>
        </p:blipFill>
        <p:spPr>
          <a:xfrm>
            <a:off x="1752480" y="1328760"/>
            <a:ext cx="5943600" cy="51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eoid effect from reduced gravity da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63" name="z_rd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TM terrain eff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67" name="z_12.rtm" descr=""/>
          <p:cNvPicPr/>
          <p:nvPr/>
        </p:nvPicPr>
        <p:blipFill>
          <a:blip r:embed="rId2"/>
          <a:stretch/>
        </p:blipFill>
        <p:spPr>
          <a:xfrm>
            <a:off x="1935000" y="1427040"/>
            <a:ext cx="576108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42640" y="6858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atistics of the restore step (example mod 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762120" y="2057400"/>
          <a:ext cx="8153280" cy="2747880"/>
        </p:xfrm>
        <a:graphic>
          <a:graphicData uri="http://schemas.openxmlformats.org/drawingml/2006/table">
            <a:tbl>
              <a:tblPr/>
              <a:tblGrid>
                <a:gridCol w="1569960"/>
                <a:gridCol w="1646280"/>
                <a:gridCol w="1644480"/>
                <a:gridCol w="1646280"/>
                <a:gridCol w="1646280"/>
              </a:tblGrid>
              <a:tr h="378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: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FT quasi-geoi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ibution fr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M ter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CE/EG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si-geo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l quasi-geoi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geoid (mod 3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75" name="geoid30" descr=""/>
          <p:cNvPicPr/>
          <p:nvPr/>
        </p:nvPicPr>
        <p:blipFill>
          <a:blip r:embed="rId2"/>
          <a:stretch/>
        </p:blipFill>
        <p:spPr>
          <a:xfrm>
            <a:off x="1143000" y="1353960"/>
            <a:ext cx="6172200" cy="535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PS-levelling comparisons (1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1523880" y="1465200"/>
          <a:ext cx="6096240" cy="217008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1447560"/>
                <a:gridCol w="152424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id – no m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: 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4-par 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weden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Finnish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”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g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tic sea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gnefj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Norway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523880" y="3925800"/>
          <a:ext cx="6096240" cy="217008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1447560"/>
                <a:gridCol w="152424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id – mod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: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4-par 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weden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Finnish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”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g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tic sea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gnefj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Norway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omalous gravity potential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plit into 3 pa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0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GM02EGM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T</a:t>
            </a:r>
            <a:r>
              <a:rPr b="0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TM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T</a:t>
            </a:r>
            <a:r>
              <a:rPr b="0" i="1" lang="en-GB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GGM02EG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– GRACE GGM02S global spherical harmonic model to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 EGM96 beyond 100 (linear blending)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RT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– Residual terrain effect (RT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esolution: 42’ x 84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 baseline="-20000">
                <a:solidFill>
                  <a:srgbClr val="000000"/>
                </a:solidFill>
                <a:latin typeface="Times New Roman"/>
              </a:rPr>
              <a:t>res</a:t>
            </a:r>
            <a:r>
              <a:rPr b="0" lang="en-GB" sz="2000" spc="-1" strike="noStrike" baseline="-2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– Residual (i.e. unmodelled) regional/local gravit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o be computed by spherical FFT / Sto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079280" y="7192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Remove-restore princip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PS-levelling comparisons (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523880" y="1465200"/>
          <a:ext cx="6096240" cy="223380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1447560"/>
                <a:gridCol w="1524240"/>
              </a:tblGrid>
              <a:tr h="51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id – mod 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: 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4-par 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weden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Finnish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”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g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tic sea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gnefj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Norway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523880" y="3925800"/>
          <a:ext cx="6096240" cy="217008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1447560"/>
                <a:gridCol w="152424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id – mod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: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4-par 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weden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Finnish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”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g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tic sea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gnefj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Norway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PS-levelling comparisons (3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"/>
          <p:cNvGraphicFramePr/>
          <p:nvPr/>
        </p:nvGraphicFramePr>
        <p:xfrm>
          <a:off x="1523880" y="1465200"/>
          <a:ext cx="6096240" cy="217656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1447560"/>
                <a:gridCol w="152424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id – mod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 Faye-Helme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4-par 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weden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Finnish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”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g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tic sea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gnefj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Norway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523880" y="3925800"/>
          <a:ext cx="6096240" cy="2170080"/>
        </p:xfrm>
        <a:graphic>
          <a:graphicData uri="http://schemas.openxmlformats.org/drawingml/2006/table">
            <a:tbl>
              <a:tblPr/>
              <a:tblGrid>
                <a:gridCol w="1676520"/>
                <a:gridCol w="1447920"/>
                <a:gridCol w="1447560"/>
                <a:gridCol w="1524240"/>
              </a:tblGrid>
              <a:tr h="47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KG96 ge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: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4-par 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weden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Finnish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”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g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tic sea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gnefj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Norway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PS-levelling comparisons (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7920" y="1676520"/>
          <a:ext cx="6095880" cy="2382840"/>
        </p:xfrm>
        <a:graphic>
          <a:graphicData uri="http://schemas.openxmlformats.org/drawingml/2006/table">
            <a:tbl>
              <a:tblPr/>
              <a:tblGrid>
                <a:gridCol w="1676160"/>
                <a:gridCol w="1447920"/>
                <a:gridCol w="1447560"/>
                <a:gridCol w="1524240"/>
              </a:tblGrid>
              <a:tr h="684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CINA/OCTAS Aug 2004 geo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: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.dev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4-par 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weden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Finnish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5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”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rge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6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tic sea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D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8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gnefjo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Norway 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5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1197360" y="4419720"/>
            <a:ext cx="686628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GOCINA/OCTAS geoid is covering the entire North Atlantic region (from Greenland to Ural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Resolution of basic grid is 5 km. Computed as a classical geoid by Helmert condens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rine gravity data adjusted in the North Atlantic. </a:t>
            </a:r>
            <a:r>
              <a:rPr b="0" i="1" lang="da-DK" sz="1400" spc="-1" strike="noStrike">
                <a:solidFill>
                  <a:srgbClr val="000000"/>
                </a:solidFill>
                <a:latin typeface="Times New Roman"/>
              </a:rPr>
              <a:t>A. Olesen / R. Forsberg, Aug. 200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9280" y="7192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Geoid difference (geoid30 – NKG96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geoid30-nkg" descr=""/>
          <p:cNvPicPr/>
          <p:nvPr/>
        </p:nvPicPr>
        <p:blipFill>
          <a:blip r:embed="rId1"/>
          <a:stretch/>
        </p:blipFill>
        <p:spPr>
          <a:xfrm>
            <a:off x="1628640" y="1409760"/>
            <a:ext cx="5534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9280" y="7192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KMS03 altimetry – geoid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kms03-geoid30" descr=""/>
          <p:cNvPicPr/>
          <p:nvPr/>
        </p:nvPicPr>
        <p:blipFill>
          <a:blip r:embed="rId1"/>
          <a:stretch/>
        </p:blipFill>
        <p:spPr>
          <a:xfrm>
            <a:off x="1187280" y="1427040"/>
            <a:ext cx="65088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9280" y="7192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Geoid fit to REFDK - Denmar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dk_dif" descr=""/>
          <p:cNvPicPr/>
          <p:nvPr/>
        </p:nvPicPr>
        <p:blipFill>
          <a:blip r:embed="rId1"/>
          <a:stretch/>
        </p:blipFill>
        <p:spPr>
          <a:xfrm>
            <a:off x="987480" y="1481040"/>
            <a:ext cx="6784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7192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Geoid fit to REFDK - Swe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sv_dif" descr=""/>
          <p:cNvPicPr/>
          <p:nvPr/>
        </p:nvPicPr>
        <p:blipFill>
          <a:blip r:embed="rId1"/>
          <a:stretch/>
        </p:blipFill>
        <p:spPr>
          <a:xfrm>
            <a:off x="1236600" y="1371600"/>
            <a:ext cx="50878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7192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25520" y="1676520"/>
            <a:ext cx="6477480" cy="42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New geoid: NKG2004 = geoid30.gri </a:t>
            </a:r>
            <a:r>
              <a:rPr b="0" lang="da-DK" sz="2000" spc="-1" strike="noStrike">
                <a:solidFill>
                  <a:srgbClr val="3333cc"/>
                </a:solidFill>
                <a:latin typeface="Times New Roman"/>
              </a:rPr>
              <a:t>+ 35 c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Incorporates much new data relative to NKG96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da-DK" sz="2000" spc="-1" strike="noStrike">
                <a:solidFill>
                  <a:srgbClr val="000000"/>
                </a:solidFill>
                <a:latin typeface="Times New Roman"/>
              </a:rPr>
              <a:t>Baltic Sea airborne</a:t>
            </a:r>
            <a:br>
              <a:rPr sz="2000"/>
            </a:br>
            <a:r>
              <a:rPr b="0" i="1" lang="da-D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a-DK" sz="2000" spc="-1" strike="noStrike">
                <a:solidFill>
                  <a:srgbClr val="000000"/>
                </a:solidFill>
                <a:latin typeface="Times New Roman"/>
              </a:rPr>
              <a:t>- New Sedish and Norwegian data</a:t>
            </a:r>
            <a:br>
              <a:rPr sz="2000"/>
            </a:br>
            <a:r>
              <a:rPr b="0" i="1" lang="da-D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a-DK" sz="2000" spc="-1" strike="noStrike">
                <a:solidFill>
                  <a:srgbClr val="000000"/>
                </a:solidFill>
                <a:latin typeface="Times New Roman"/>
              </a:rPr>
              <a:t>- Russia</a:t>
            </a:r>
            <a:br>
              <a:rPr sz="2000"/>
            </a:br>
            <a:r>
              <a:rPr b="0" i="1" lang="da-D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a-DK" sz="2000" spc="-1" strike="noStrike">
                <a:solidFill>
                  <a:srgbClr val="000000"/>
                </a:solidFill>
                <a:latin typeface="Times New Roman"/>
              </a:rPr>
              <a:t>- Baltic states</a:t>
            </a:r>
            <a:br>
              <a:rPr sz="2000"/>
            </a:br>
            <a:r>
              <a:rPr b="0" i="1" lang="da-D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a-DK" sz="2000" spc="-1" strike="noStrike">
                <a:solidFill>
                  <a:srgbClr val="000000"/>
                </a:solidFill>
                <a:latin typeface="Times New Roman"/>
              </a:rPr>
              <a:t>- New DEM</a:t>
            </a:r>
            <a:br>
              <a:rPr sz="2000"/>
            </a:br>
            <a:r>
              <a:rPr b="0" i="1" lang="da-D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a-DK" sz="2000" spc="-1" strike="noStrike">
                <a:solidFill>
                  <a:srgbClr val="000000"/>
                </a:solidFill>
                <a:latin typeface="Times New Roman"/>
              </a:rPr>
              <a:t>- GRACE GGM02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Better fit than NKG96, slightly better than GOCINA/OCTAS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   (except in Norw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cc"/>
                </a:solidFill>
                <a:latin typeface="Times New Roman"/>
              </a:rPr>
              <a:t>NKG2004 fitted to be ”approximately” at UELN he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cc"/>
                </a:solidFill>
                <a:latin typeface="Times New Roman"/>
              </a:rPr>
              <a:t>Fit to national systems: ”fitgeoid.job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goal is the geoi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“inside masses”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 non-harm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ide m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led directly: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si-geoi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 “the geoid on topography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the normal gravity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the latitude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the longitude and H is the (orthometric) hei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666880" y="2590920"/>
                <a:ext cx="16765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191120"/>
                <a:ext cx="1752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ζ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Geoid and quasigeoi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imately, the relation betwe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id 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quasi-geoid </a:t>
            </a:r>
            <a:r>
              <a:rPr b="0" i="1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i="1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i="1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difference between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metr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ig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igh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da-DK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Bougu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maly and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the normal gravity at the ellipso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cc"/>
                </a:solidFill>
                <a:latin typeface="Times New Roman"/>
              </a:rPr>
              <a:t>NKG2004 is basically a quasi-geoi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66880" y="2835360"/>
                <a:ext cx="29718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ζ</m:t>
                    </m:r>
                    <m:r>
                      <m:rPr>
                        <m:lit/>
                        <m:nor/>
                      </m:rPr>
                      <m:t xml:space="preserve"> - N =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-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  <m:sup/>
                    </m:sSubSup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 - 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79280" y="7192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onversion from quasigeoid to geoi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TM terrain eff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90720" y="3505320"/>
            <a:ext cx="37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Fourier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143000" y="4206960"/>
                <a:ext cx="73915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T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G</m:t>
                    </m:r>
                    <m:r>
                      <m:t xml:space="preserve">ρ</m:t>
                    </m:r>
                    <m:limLow>
                      <m:e>
                        <m:limUp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∞</m:t>
                            </m:r>
                          </m:lim>
                        </m:limUpp>
                      </m:e>
                      <m:lim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/>
                      <m:sup/>
                      <m:e/>
                    </m:nary>
                    <m:limLow>
                      <m:e>
                        <m:limUp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=h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</m:lim>
                        </m:limUp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z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z-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[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/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12" name=""/>
          <p:cNvGraphicFramePr/>
          <p:nvPr/>
        </p:nvGraphicFramePr>
        <p:xfrm>
          <a:off x="2743200" y="1600200"/>
          <a:ext cx="3657600" cy="181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600200"/>
                    <a:ext cx="3657600" cy="18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51160" y="5300640"/>
                <a:ext cx="269388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TM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 G</m:t>
                    </m:r>
                    <m:r>
                      <m:t xml:space="preserve">ρ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Stokes/Molodens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here g</a:t>
            </a:r>
            <a:r>
              <a:rPr b="0" lang="da-DK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 is the first term in the Molodensky’s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Stokes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567160" y="2217600"/>
                <a:ext cx="36813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πγ</m:t>
                        </m:r>
                      </m:den>
                    </m:f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σ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95280" y="4191120"/>
                <a:ext cx="6629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ψ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6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1 - 5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rPr>
                        <m:lit/>
                        <m:nor/>
                      </m:rPr>
                      <m:t xml:space="preserve"> - 3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79280" y="7192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Conversion of residual gravity (after RTM and EG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okes kernel modif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Stokes’ kernel modification (i.e. modified Wong-G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method without ”sharp edges”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523880" y="4051440"/>
                <a:ext cx="563904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</m:t>
                              </m:r>
                            </m:e>
                            <m:e>
                              <m:r>
                                <m:t xml:space="preserve">N</m:t>
                              </m:r>
                              <m:r>
                                <m:t xml:space="preserve">≥</m:t>
                              </m:r>
                              <m:r>
                                <m:t xml:space="preserve">n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m>
                      <m:mr>
                        <m:e/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r>
                            <m:t xml:space="preserve">N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362320" y="2639880"/>
                <a:ext cx="43434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S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vity data u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31" name="all_rd" descr=""/>
          <p:cNvPicPr/>
          <p:nvPr/>
        </p:nvPicPr>
        <p:blipFill>
          <a:blip r:embed="rId2"/>
          <a:stretch/>
        </p:blipFill>
        <p:spPr>
          <a:xfrm>
            <a:off x="1270080" y="1370160"/>
            <a:ext cx="4521240" cy="53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114800"/>
                <a:tab algn="l" pos="8229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mpiled terrain dat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240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spacer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136" name="sdem2004.02" descr=""/>
          <p:cNvPicPr/>
          <p:nvPr/>
        </p:nvPicPr>
        <p:blipFill>
          <a:blip r:embed="rId2"/>
          <a:stretch/>
        </p:blipFill>
        <p:spPr>
          <a:xfrm>
            <a:off x="1704960" y="1295280"/>
            <a:ext cx="5991120" cy="526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7T07:27:30Z</dcterms:created>
  <dc:creator>Gabriel Strykowski</dc:creator>
  <dc:description>Tilrettet d. 15-11-2000 af Kent Agerlund, Coretech ApS</dc:description>
  <dc:language>en-US</dc:language>
  <cp:lastModifiedBy>Rene Forsberg</cp:lastModifiedBy>
  <dcterms:modified xsi:type="dcterms:W3CDTF">2004-11-18T14:47:47Z</dcterms:modified>
  <cp:revision>457</cp:revision>
  <dc:subject/>
  <dc:title>PowerPoint-præsentation</dc:title>
</cp:coreProperties>
</file>